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38CD8-51B2-4A8B-A0FE-65D642CF9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A5AE2-AC12-46CF-A3E9-67A89538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F8798-0D3C-47DD-9734-5A3EEF074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499A3-E62B-411A-BA42-603BF402E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22CAC-3F13-4E2B-9FB5-192F08AA9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C223C-0601-4617-BFCB-4083ADCEC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DD7CA-A0B0-4BE1-9D4B-4BCD59C10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645FF-EC5F-4991-BCA9-CA4FF77FA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4D30C-1299-41CE-AEF0-0AEDB1DDA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03911-12E0-4FF5-8672-CE96731BD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D160B-A4EF-4CFA-895B-1BB8923B9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D7269-1693-4D2B-BE9C-C8B3A3900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D83FF-4600-4636-9997-03D37809F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99DF1-3A66-4B50-90FC-4C36D53C6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E2D13-61CC-429D-80CF-455F1DAB4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8E28D-9D0B-4CC8-8ED2-5C15F8F6C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22ACB-735C-47CF-9CDA-96BD37215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E6CB-E4D5-4CA7-B826-8C1F7762E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95617-65F3-4D33-8C3B-762D8B33A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88BD7-DFAD-4519-BF6B-17604680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F939B-F1F6-4EAB-96F3-8A0C484B4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D83C4-8145-4FB9-8DC8-7A8557F6F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6F3E-F339-4A84-B958-2DCAF2DE2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1EA8-AAA6-47B8-BC6B-EAF4C3749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630D-B93A-4CD3-8821-E2515DC18B4C}"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82B0-B0B4-4DB8-BDE1-75105FE74A7F}"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新魏"/>
              </a:rPr>
              <a:t>参评学生简介</a:t>
            </a:r>
            <a:endParaRPr b="0" lang="en-US" sz="4400" spc="-1" strike="noStrike">
              <a:solidFill>
                <a:srgbClr val="333399"/>
              </a:solidFill>
              <a:latin typeface="Tahoma"/>
            </a:endParaRPr>
          </a:p>
        </p:txBody>
      </p:sp>
      <p:sp>
        <p:nvSpPr>
          <p:cNvPr id="99" name="PlaceHolder 2"/>
          <p:cNvSpPr>
            <a:spLocks noGrp="1"/>
          </p:cNvSpPr>
          <p:nvPr>
            <p:ph/>
          </p:nvPr>
        </p:nvSpPr>
        <p:spPr>
          <a:xfrm>
            <a:off x="684360" y="2017440"/>
            <a:ext cx="4308480" cy="1771560"/>
          </a:xfrm>
          <a:prstGeom prst="rect">
            <a:avLst/>
          </a:prstGeom>
          <a:noFill/>
          <a:ln w="0">
            <a:noFill/>
          </a:ln>
        </p:spPr>
        <p:txBody>
          <a:bodyPr lIns="90000" rIns="90000" tIns="46800" bIns="46800" anchor="t">
            <a:normAutofit fontScale="32000"/>
          </a:bodyPr>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姓名：周洁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年级：博士三年级</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指导教师</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孙六全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专业方向</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概率统计</a:t>
            </a:r>
            <a:endParaRPr b="0" lang="en-US" sz="2800" spc="-1" strike="noStrike">
              <a:solidFill>
                <a:srgbClr val="000000"/>
              </a:solidFill>
              <a:latin typeface="Tahoma"/>
            </a:endParaRPr>
          </a:p>
          <a:p>
            <a:pPr marL="1094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00" name="PlaceHolder 3"/>
          <p:cNvSpPr>
            <a:spLocks noGrp="1"/>
          </p:cNvSpPr>
          <p:nvPr>
            <p:ph/>
          </p:nvPr>
        </p:nvSpPr>
        <p:spPr>
          <a:xfrm>
            <a:off x="108000" y="4295520"/>
            <a:ext cx="8494560" cy="2374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2800" spc="-1" strike="noStrike">
                <a:solidFill>
                  <a:srgbClr val="0066ff"/>
                </a:solidFill>
                <a:latin typeface="华文宋体"/>
                <a:ea typeface="华文宋体"/>
              </a:rPr>
              <a:t>  </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对于带有相依终止时间下的复发事件变系数半参模型及带信息观测的纵向数据模型，提出了有效的估计方法，并证明了估计的渐近性质</a:t>
            </a:r>
            <a:r>
              <a:rPr b="1" lang="en-US" sz="2400" spc="-1" strike="noStrike">
                <a:solidFill>
                  <a:srgbClr val="000000"/>
                </a:solidFill>
                <a:latin typeface="华文宋体"/>
                <a:ea typeface="华文宋体"/>
              </a:rPr>
              <a:t>,</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同时对一些实际数据进行统计分析。所获得的结果既有重要的理论意义，又有广泛应用前景。</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endParaRPr b="0" lang="en-US" sz="2000" spc="-1" strike="noStrike">
              <a:solidFill>
                <a:srgbClr val="000000"/>
              </a:solidFill>
              <a:latin typeface="Tahoma"/>
            </a:endParaRPr>
          </a:p>
        </p:txBody>
      </p:sp>
      <p:pic>
        <p:nvPicPr>
          <p:cNvPr id="101" name="" descr=""/>
          <p:cNvPicPr/>
          <p:nvPr/>
        </p:nvPicPr>
        <p:blipFill>
          <a:blip r:embed="rId1"/>
          <a:stretch/>
        </p:blipFill>
        <p:spPr>
          <a:xfrm>
            <a:off x="4356000" y="1870200"/>
            <a:ext cx="4032360" cy="271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02:45:16Z</dcterms:created>
  <dc:creator>unknown</dc:creator>
  <dc:description/>
  <cp:keywords/>
  <dc:language>en-US</dc:language>
  <cp:lastModifiedBy>unknown</cp:lastModifiedBy>
  <dcterms:modified xsi:type="dcterms:W3CDTF">2014-08-21T07:55:04Z</dcterms:modified>
  <cp:revision>4</cp:revision>
  <dc:subject/>
  <dc:title>研究院院长奖学金优秀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Version">
    <vt:r8>6</vt:r8>
  </property>
</Properties>
</file>